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034-549B-4311-9527-0408CD78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355-AAF9-4B2E-8BC8-78908B0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5AF-3FEE-4890-86EB-9612B8E4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0E9-B9BE-46D2-AFFA-0C0DA363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36A-AEA0-467F-B8A6-6F9B03A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E87-78A0-4565-B431-FFF4E73F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109-C710-455B-97AA-3204838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9F6-B3C6-418F-971B-6ECFCC76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EE8-656B-44B7-87BF-8791D2D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1C2-9FCE-4664-9996-372B1C2A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166-FBA0-4483-95C9-611435D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3A0-785F-48DF-AE1F-7C7E9A1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0489-2B20-4AAA-A9BD-34DBFCC7C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730680"/>
            <a:ext cx="434340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82440" y="228600"/>
          <a:ext cx="4337280" cy="29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228600"/>
                    <a:ext cx="433728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2761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282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3817800"/>
            <a:ext cx="4267440" cy="284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800600" y="3808440"/>
            <a:ext cx="4114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191120" cy="22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97512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3968640"/>
            <a:ext cx="4191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02T22:42:11Z</dcterms:modified>
  <cp:revision>33</cp:revision>
  <dc:subject/>
  <dc:title>Slide 1</dc:title>
</cp:coreProperties>
</file>